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8D10-7378-425C-B2B5-C5636032A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FF29-5DCF-4D8A-8DCF-0735F7AA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2D78-F8C4-4C07-AE73-313081E6B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A186-809B-462B-B0C5-B9600F566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197A-0B7C-479B-9CED-72EF2F1A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743C-45F7-4224-A448-173C23CE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4A0C-C34E-4101-BC45-D63B8AE6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3461-0174-4FC1-961F-792FF947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B0F0-C581-4BD3-A22C-FDED5681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6CBB-EFFC-4591-AAB0-174B882E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7445-E907-4EB2-82DA-F5121EB9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0E93-259F-45B0-9ECC-108CCC55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3694-D7C9-43E7-9F29-9C5E6BE15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25800"/>
            <a:ext cx="8686800" cy="230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7200" spc="-1" strike="noStrike">
                <a:solidFill>
                  <a:srgbClr val="cc3300"/>
                </a:solidFill>
                <a:latin typeface="Verdana"/>
              </a:rPr>
              <a:t>Архитектонски </a:t>
            </a:r>
            <a:br>
              <a:rPr sz="7200"/>
            </a:br>
            <a:r>
              <a:rPr b="1" lang="sr-CS" sz="7200" spc="-1" strike="noStrike">
                <a:solidFill>
                  <a:srgbClr val="cc3300"/>
                </a:solidFill>
                <a:latin typeface="Verdana"/>
              </a:rPr>
              <a:t>технича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380880" y="609480"/>
          <a:ext cx="3733920" cy="5257800"/>
        </p:xfrm>
        <a:graphic>
          <a:graphicData uri="http://schemas.openxmlformats.org/drawingml/2006/table">
            <a:tbl>
              <a:tblPr/>
              <a:tblGrid>
                <a:gridCol w="395280"/>
                <a:gridCol w="3338640"/>
              </a:tblGrid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cc3300"/>
                          </a:solidFill>
                          <a:latin typeface="YU C Swiss"/>
                        </a:rPr>
                        <a:t>A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cc3300"/>
                          </a:solidFill>
                          <a:latin typeface="YU C Swiss"/>
                        </a:rPr>
                        <a:t>ОПШТЕОБРАЗОВНИ ПРЕДМЕ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0000"/>
                      </a:srgbClr>
                    </a:solidFill>
                  </a:tcPr>
                </a:tc>
              </a:tr>
              <a:tr h="262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1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Српски језик и књижевнос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1а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_______ језик и књижевнос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2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Рачунарство и информа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Страни језик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Физичко и здравствено васпитањ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Mатема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Историј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cc3300"/>
                          </a:solidFill>
                          <a:latin typeface="YU C Swiss"/>
                        </a:rPr>
                        <a:t>B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cc3300"/>
                          </a:solidFill>
                          <a:latin typeface="YU C Swiss"/>
                        </a:rPr>
                        <a:t>ОПШТЕСТРУЧНИ  И СТРУЧНИ ПРЕДМЕ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0000"/>
                      </a:srgbClr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Техничко цртањ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Хемиј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Нацртна геометриј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Грађевинска физ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Примена рачунара у грађевинарств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Грађевински материјал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Грађевинске конструкциј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Предузетништ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Слободоручно цртањ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Статика и отпорност материја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Историја архитектур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4495680" y="609480"/>
          <a:ext cx="3962520" cy="5181840"/>
        </p:xfrm>
        <a:graphic>
          <a:graphicData uri="http://schemas.openxmlformats.org/drawingml/2006/table">
            <a:tbl>
              <a:tblPr/>
              <a:tblGrid>
                <a:gridCol w="419400"/>
                <a:gridCol w="3543120"/>
              </a:tblGrid>
              <a:tr h="293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cc3300"/>
                          </a:solidFill>
                          <a:latin typeface="YU C Swiss"/>
                        </a:rPr>
                        <a:t>V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cc3300"/>
                          </a:solidFill>
                          <a:latin typeface="YU C Swiss"/>
                        </a:rPr>
                        <a:t>СТРУЧНИ МОДУЛ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0000"/>
                      </a:srgbClr>
                    </a:solidFill>
                  </a:tcPr>
                </a:tc>
              </a:tr>
              <a:tr h="29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Пројекти објеката високоградњ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Пројекти конзервације и ревитализациј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Разрада АБ конструкциј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Разрада металних конструкциј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Разрада монтажних конструкциј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Разрада дрвених конструкциј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Документација објек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Извођење објек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Презентација пројек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Одрживи разво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Урбанистички планови и пројек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Кућне инсталациј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cc3300"/>
                          </a:solidFill>
                          <a:latin typeface="YU C Swiss"/>
                        </a:rPr>
                        <a:t>G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cc3300"/>
                          </a:solidFill>
                          <a:latin typeface="YU C Swiss"/>
                        </a:rPr>
                        <a:t>ИЗБОРНИ ПРЕДМЕ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0000"/>
                      </a:srgbClr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30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Изборни предмет предвиђен Закон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3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Избижорни предмет предвиђен Програмом огле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3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YU C Swiss"/>
                        </a:rPr>
                        <a:t>Изборни предмет предвиђен Програмом огле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0" y="274680"/>
          <a:ext cx="4343400" cy="5851440"/>
        </p:xfrm>
        <a:graphic>
          <a:graphicData uri="http://schemas.openxmlformats.org/drawingml/2006/table">
            <a:tbl>
              <a:tblPr/>
              <a:tblGrid>
                <a:gridCol w="763560"/>
                <a:gridCol w="3579840"/>
              </a:tblGrid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cc3300"/>
                          </a:solidFill>
                          <a:latin typeface="Verdana"/>
                        </a:rPr>
                        <a:t>Г: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cc3300"/>
                          </a:solidFill>
                          <a:latin typeface="Verdana"/>
                        </a:rPr>
                        <a:t>ИЗБОРНИ ПРЕДМЕ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>
                        <a:alpha val="40000"/>
                      </a:srgbClr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c0c0c0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зборни предмет предвиђен Закон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0000"/>
                      </a:srgbClr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еронау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рађанско васпитањ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зборни предмети предвиђени Програмом огле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40000"/>
                      </a:srgbClr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ултимедиј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еографиј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узичка култу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Историја  умет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снови комуналне хидроградњ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снови геодезиј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снове нискоградњ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авремено градитељст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ерспекти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Физика</a:t>
                      </a: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изабрана поглављ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Ентерије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ејзажна архитекту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омпновање обл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омбинатор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атематичка анализ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Line 230"/>
          <p:cNvSpPr/>
          <p:nvPr/>
        </p:nvSpPr>
        <p:spPr>
          <a:xfrm>
            <a:off x="1219320" y="464832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31"/>
          <p:cNvSpPr/>
          <p:nvPr/>
        </p:nvSpPr>
        <p:spPr>
          <a:xfrm>
            <a:off x="4800600" y="4343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4"/>
          <p:cNvSpPr/>
          <p:nvPr/>
        </p:nvSpPr>
        <p:spPr>
          <a:xfrm>
            <a:off x="2821680" y="228240"/>
            <a:ext cx="294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HITEKTONSKI TEHNI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Č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23720" y="609480"/>
          <a:ext cx="8415360" cy="6127920"/>
        </p:xfrm>
        <a:graphic>
          <a:graphicData uri="http://schemas.openxmlformats.org/drawingml/2006/table">
            <a:tbl>
              <a:tblPr/>
              <a:tblGrid>
                <a:gridCol w="1576440"/>
                <a:gridCol w="463680"/>
                <a:gridCol w="6375240"/>
              </a:tblGrid>
              <a:tr h="56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UŽNOS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DA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rowSpan="2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.RAZRAĐUJE PROJEKTNU I TEHNIČKU DOKUMENTACIJ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prema / pribavlja Akt o urbanističko tehničkim uslovim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ta situaciju terena (situacioni plan) na osnovu geodetskog plan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zrađuje (osnove, karakteristične preseke, izglede, 3D prikaze)arhitektonsko-građevinske projekte (idejne, glavne, izvođačke) za objekte visokogradnj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čestvuje u tehničkom  snimanju I iscrtavanju  projekata postojećeg / izvedenog stanja objekata visokogradnje u cilju razrade projekata I uslova I mera teh. Zaštite, elaborate I smernica za očuvanje nepokretnih kulturnih dobara I dobara koja uživaju prethodnu zaštitu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čestvuje u razrađivanju projekata  konzervacije I revitalizacije objekata I spomenika kultu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rada terenske tehničke dokumentacije na arheološkim istraživanjim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rada I obrada stručne tehničke dokumentacije o radovima, formiranje dosijea I drugih oblika čuvanja dokumentacij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češće u obradi za prezentaciju I objavljivanje rezultata istraživačkog I stručnog rad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rađuje šeme otvora (stolarije I bravarij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rađuje predmer I predračun I analizu cena materijala I rad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zrađuje arhitektonske detalj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ta plan statičkih pozicij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ta detalje armatu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rađuje specifikaciju armatu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ta detalje čeličnih I drvenih konstrukcij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zrađuje projekte za kućni vodovod I kanalizacij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rađuje specifikaciju materijala za vodovod I kanalizaciju  obrađujeuje tehničko – ekonomski elaborate (organizacija priprema, izvođenja I obračuna) za vodovod I kanalizacij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čestvuje u evidentiranju I prikupljanju podataka na terenu prilikom pripreme prostornih I urbanističkih planova I rešenj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čestvuje u razradi prostornih I urbanističkih planova I rešanj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računava numeričke pokazatelje za prostorne I urbanističke plano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prema opštu dokumentaciju projek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pira, formatizuje, pakuje celokupni projeka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rađuje makete objekata I terena u određenim razmeram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304920" y="1295280"/>
          <a:ext cx="8610480" cy="4989600"/>
        </p:xfrm>
        <a:graphic>
          <a:graphicData uri="http://schemas.openxmlformats.org/drawingml/2006/table">
            <a:tbl>
              <a:tblPr/>
              <a:tblGrid>
                <a:gridCol w="1612800"/>
                <a:gridCol w="474480"/>
                <a:gridCol w="6523200"/>
              </a:tblGrid>
              <a:tr h="246240">
                <a:tc rowSpan="10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VODI GRADILIŠNU DOKUMENTACIJ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di građevinski dnevni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di građevinsku knjig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mira knjige inspekcije)htz, građ., rada, p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rađuje privremene situacij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rađuje obračunske situacij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čestvuje u izradi okončane situacije sa zapisnikom (kao saradnik u paritetnim komisijam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računava radne nalo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kuplja ateste ugrađenih materijala I opre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rađuje specifikaciju materijala I kalkulacije (analize cen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iniše kote na osnovu nivelm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.UČESTVUJE U IZRADI PROJEKTA ORGANIZACIJE GRAĐEN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LANIRANJ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ta organizacionu šemu gradiliš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mira matricu za dinamički pl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rađuje statički plan materija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rađuje dinamički plan materija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punjava obrasce angažovanja radne snage I građevinske mehanizacij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. ORGANIZUJE PRIPREMNE RADOVE NA GRADILIŠ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rovodi ograđivanje I obeležavanje gradilišta na osnovu protokola o obeležavanju objek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zuje raščišćavanje tere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zuje izgradnju transportnih pute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zuje izgradnju pmoćnih objekata prema šemi gradiliš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zuje izvođenje svih potrebnih priključaka (vode, struje, T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423720" y="501480"/>
          <a:ext cx="8298000" cy="5857920"/>
        </p:xfrm>
        <a:graphic>
          <a:graphicData uri="http://schemas.openxmlformats.org/drawingml/2006/table">
            <a:tbl>
              <a:tblPr/>
              <a:tblGrid>
                <a:gridCol w="1554480"/>
                <a:gridCol w="457200"/>
                <a:gridCol w="6286320"/>
              </a:tblGrid>
              <a:tr h="276480">
                <a:tc rowSpan="11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.UČESTVUJE U ORGANIZACIJI IZGRADNJE OBJEK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mači (čita) projektnu dokumentacij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hnološki razrađuje izvođačke  detal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dlaže (sprovodi) izmene projektne dokumentaci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ita geodetski plan (obeleženog objekta) Definiše kote na osnovu nivelm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ira izvršenje svakodnevnih radnih zadataka brigade na osnovu dinamičkog pl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ordinira rad svih brigade na gradiliš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ručuje(kontroliše) sve vrste građevinskih materijal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rovodi rad građevinske mehanizacije u skladu sa dinamičkim plan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troliše primenu PP i HTZ sredsta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ti I evidentira realizaciju dinamičkog plana građen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ti realizaciju Elaborata o beton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. PRIPREMA TEHNIČKU DOKUMENTACIJU I OPERATIVNO VODI UPRAVNE POSTUP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prema 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vode, rešenja za lokaciju i urbanističke saglasnosti za izgradnju, dogradnju, i nadgradnju objekata visokogradn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erativno vodi postupak za izdavanje saglasnosti  za izgradnju, dogradnju, nadgradnju, rekonstrukciju, adaptaciju I sanaciju objekata visokogradn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ti i  evidentira neregulisanu gradnju I podnosi zahteve o donošenju rešenja za stopiranje gradn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rovodi rešenja o rošenju bespravno izgrađenih objek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.U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VUJE U PROCENI VREDNOSTI OBJEKATA VISOKOGRADN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vrđuje vrste I količine ugrađenog materija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verava kvalitet I stanje građevinskog materija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prema zapisnik o količini I kvalitetu građevinskog materija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prema skicu građevinskog objek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računava građevinsku vrednost objekta po pozicijama I utvrđuje stopu amortizaci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707040" y="1596960"/>
            <a:ext cx="782316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20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rađevinskim preduzećima - na gradilištu, tehnološkoj razradi detalja, kalkulacija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20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rbanističkom zavo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20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ktnom bir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20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Zavodu za zaštitu spomenika k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20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Zavodu za izgradnju gr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20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eodetskom zavo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20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radskim komunalnim preduzeći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20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pštinskim sekretarijatima za građevinarstvo, urbanizam,… na prijemu zahte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20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rađevinskoj inspekcij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20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radskom (građevinskom) arhiv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20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rgovini građevinskim materijalima, nameštajem </a:t>
            </a:r>
            <a:r>
              <a:rPr b="1" lang="sr-Latn-CS" sz="1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oprem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20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genciji za prodaju nekretnina – agent prodaj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20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tambenim  zadru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-428760" y="1523880"/>
            <a:ext cx="9375840" cy="360"/>
          </a:xfrm>
          <a:prstGeom prst="rect">
            <a:avLst/>
          </a:prstGeom>
          <a:solidFill>
            <a:srgbClr val="e6e6e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4"/>
          <p:cNvSpPr/>
          <p:nvPr/>
        </p:nvSpPr>
        <p:spPr>
          <a:xfrm>
            <a:off x="-428760" y="1523880"/>
            <a:ext cx="9375840" cy="360"/>
          </a:xfrm>
          <a:prstGeom prst="rect">
            <a:avLst/>
          </a:prstGeom>
          <a:solidFill>
            <a:srgbClr val="e6e6e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Object 162"/>
          <p:cNvGraphicFramePr/>
          <p:nvPr/>
        </p:nvGraphicFramePr>
        <p:xfrm>
          <a:off x="0" y="1143000"/>
          <a:ext cx="914400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Object 16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9144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Rectangle 163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3300"/>
                </a:solidFill>
                <a:latin typeface="Arial"/>
              </a:rPr>
              <a:t>Архитектонски технич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3300"/>
                </a:solidFill>
                <a:latin typeface="Arial"/>
              </a:rPr>
              <a:t>Радне компетенц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6"/>
          <p:cNvSpPr/>
          <p:nvPr/>
        </p:nvSpPr>
        <p:spPr>
          <a:xfrm>
            <a:off x="152280" y="1905120"/>
            <a:ext cx="2819520" cy="2743200"/>
          </a:xfrm>
          <a:prstGeom prst="ellipse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3300"/>
                </a:solidFill>
                <a:latin typeface="Arial"/>
              </a:rPr>
              <a:t>разради и презентује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sr-CS" sz="1400" spc="-1" strike="noStrike">
                <a:solidFill>
                  <a:srgbClr val="cc3300"/>
                </a:solidFill>
                <a:latin typeface="Arial"/>
              </a:rPr>
              <a:t>пројекте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3300"/>
                </a:solidFill>
                <a:latin typeface="Arial"/>
              </a:rPr>
              <a:t>високоградње</a:t>
            </a:r>
            <a:r>
              <a:rPr b="1" lang="sr-Latn-CS" sz="14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sr-CS" sz="1400" spc="-1" strike="noStrike">
                <a:solidFill>
                  <a:srgbClr val="cc3300"/>
                </a:solidFill>
                <a:latin typeface="Arial"/>
              </a:rPr>
              <a:t>урбанистичк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3300"/>
                </a:solidFill>
                <a:latin typeface="Arial"/>
              </a:rPr>
              <a:t>конзервације и ревитализациј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8"/>
          <p:cNvSpPr/>
          <p:nvPr/>
        </p:nvSpPr>
        <p:spPr>
          <a:xfrm>
            <a:off x="3124080" y="1905120"/>
            <a:ext cx="2819520" cy="2743200"/>
          </a:xfrm>
          <a:prstGeom prst="ellipse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3300"/>
                </a:solidFill>
                <a:latin typeface="Arial"/>
              </a:rPr>
              <a:t>уради анализу цена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3300"/>
                </a:solidFill>
                <a:latin typeface="Arial"/>
              </a:rPr>
              <a:t>предмер и предрачу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3300"/>
                </a:solidFill>
                <a:latin typeface="Arial"/>
              </a:rPr>
              <a:t>радова за објек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9"/>
          <p:cNvSpPr/>
          <p:nvPr/>
        </p:nvSpPr>
        <p:spPr>
          <a:xfrm>
            <a:off x="6172200" y="1905120"/>
            <a:ext cx="2819520" cy="2743200"/>
          </a:xfrm>
          <a:prstGeom prst="ellipse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3300"/>
                </a:solidFill>
                <a:latin typeface="Arial"/>
              </a:rPr>
              <a:t>организује изградњу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3300"/>
                </a:solidFill>
                <a:latin typeface="Arial"/>
              </a:rPr>
              <a:t>води документациј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3300"/>
                </a:solidFill>
                <a:latin typeface="Arial"/>
              </a:rPr>
              <a:t>при извођењу објек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 rot="10800000">
            <a:off x="1295280" y="1142640"/>
            <a:ext cx="533520" cy="609480"/>
          </a:xfrm>
          <a:prstGeom prst="downArrow">
            <a:avLst>
              <a:gd name="adj1" fmla="val 50000"/>
              <a:gd name="adj2" fmla="val 28559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 rot="10800000">
            <a:off x="4267080" y="1142640"/>
            <a:ext cx="533520" cy="609480"/>
          </a:xfrm>
          <a:prstGeom prst="downArrow">
            <a:avLst>
              <a:gd name="adj1" fmla="val 50000"/>
              <a:gd name="adj2" fmla="val 28559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2"/>
          <p:cNvSpPr/>
          <p:nvPr/>
        </p:nvSpPr>
        <p:spPr>
          <a:xfrm rot="10800000">
            <a:off x="7391160" y="1142640"/>
            <a:ext cx="533160" cy="609480"/>
          </a:xfrm>
          <a:prstGeom prst="downArrow">
            <a:avLst>
              <a:gd name="adj1" fmla="val 50000"/>
              <a:gd name="adj2" fmla="val 28579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0" y="55627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3300"/>
                </a:solidFill>
                <a:latin typeface="Arial"/>
              </a:rPr>
              <a:t>проверавају се стручном матур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30"/>
          <p:cNvGrpSpPr/>
          <p:nvPr/>
        </p:nvGrpSpPr>
        <p:grpSpPr>
          <a:xfrm>
            <a:off x="1523880" y="4800600"/>
            <a:ext cx="6096240" cy="380880"/>
            <a:chOff x="1523880" y="4800600"/>
            <a:chExt cx="6096240" cy="380880"/>
          </a:xfrm>
        </p:grpSpPr>
        <p:sp>
          <p:nvSpPr>
            <p:cNvPr id="56" name="Line 19"/>
            <p:cNvSpPr/>
            <p:nvPr/>
          </p:nvSpPr>
          <p:spPr>
            <a:xfrm>
              <a:off x="1523880" y="5181480"/>
              <a:ext cx="609624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23"/>
            <p:cNvSpPr/>
            <p:nvPr/>
          </p:nvSpPr>
          <p:spPr>
            <a:xfrm flipV="1">
              <a:off x="1523880" y="4800600"/>
              <a:ext cx="0" cy="38088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24"/>
            <p:cNvSpPr/>
            <p:nvPr/>
          </p:nvSpPr>
          <p:spPr>
            <a:xfrm flipV="1">
              <a:off x="4572000" y="4800600"/>
              <a:ext cx="0" cy="38088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25"/>
            <p:cNvSpPr/>
            <p:nvPr/>
          </p:nvSpPr>
          <p:spPr>
            <a:xfrm flipV="1">
              <a:off x="7620120" y="4800600"/>
              <a:ext cx="0" cy="38088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AutoShape 29"/>
          <p:cNvSpPr/>
          <p:nvPr/>
        </p:nvSpPr>
        <p:spPr>
          <a:xfrm rot="10800000">
            <a:off x="4267080" y="5333760"/>
            <a:ext cx="533520" cy="609480"/>
          </a:xfrm>
          <a:prstGeom prst="downArrow">
            <a:avLst>
              <a:gd name="adj1" fmla="val 50000"/>
              <a:gd name="adj2" fmla="val 28559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7"/>
          <p:cNvSpPr/>
          <p:nvPr/>
        </p:nvSpPr>
        <p:spPr>
          <a:xfrm rot="10800000">
            <a:off x="4343400" y="761760"/>
            <a:ext cx="533520" cy="609480"/>
          </a:xfrm>
          <a:prstGeom prst="downArrow">
            <a:avLst>
              <a:gd name="adj1" fmla="val 50000"/>
              <a:gd name="adj2" fmla="val 28559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19"/>
          <p:cNvGrpSpPr/>
          <p:nvPr/>
        </p:nvGrpSpPr>
        <p:grpSpPr>
          <a:xfrm>
            <a:off x="1523880" y="1523520"/>
            <a:ext cx="6096240" cy="381600"/>
            <a:chOff x="1523880" y="1523520"/>
            <a:chExt cx="6096240" cy="381600"/>
          </a:xfrm>
        </p:grpSpPr>
        <p:sp>
          <p:nvSpPr>
            <p:cNvPr id="63" name="Line 10"/>
            <p:cNvSpPr/>
            <p:nvPr/>
          </p:nvSpPr>
          <p:spPr>
            <a:xfrm>
              <a:off x="1523880" y="1523880"/>
              <a:ext cx="609624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1523880" y="1523880"/>
              <a:ext cx="0" cy="38124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2"/>
            <p:cNvSpPr/>
            <p:nvPr/>
          </p:nvSpPr>
          <p:spPr>
            <a:xfrm flipV="1">
              <a:off x="4572000" y="1523520"/>
              <a:ext cx="0" cy="38124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3"/>
            <p:cNvSpPr/>
            <p:nvPr/>
          </p:nvSpPr>
          <p:spPr>
            <a:xfrm>
              <a:off x="7620120" y="1523880"/>
              <a:ext cx="0" cy="38124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Rectangle 16"/>
          <p:cNvSpPr/>
          <p:nvPr/>
        </p:nvSpPr>
        <p:spPr>
          <a:xfrm>
            <a:off x="457200" y="2666880"/>
            <a:ext cx="2286000" cy="2286000"/>
          </a:xfrm>
          <a:prstGeom prst="rect">
            <a:avLst/>
          </a:prstGeom>
          <a:solidFill>
            <a:srgbClr val="96969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3300"/>
                </a:solidFill>
                <a:latin typeface="Verdana"/>
              </a:rPr>
              <a:t>ЗН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7"/>
          <p:cNvSpPr/>
          <p:nvPr/>
        </p:nvSpPr>
        <p:spPr>
          <a:xfrm>
            <a:off x="3352680" y="2666880"/>
            <a:ext cx="2286000" cy="2286000"/>
          </a:xfrm>
          <a:prstGeom prst="rect">
            <a:avLst/>
          </a:prstGeom>
          <a:solidFill>
            <a:srgbClr val="96969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3300"/>
                </a:solidFill>
                <a:latin typeface="Verdana"/>
              </a:rPr>
              <a:t>ВЕШТ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8"/>
          <p:cNvSpPr/>
          <p:nvPr/>
        </p:nvSpPr>
        <p:spPr>
          <a:xfrm>
            <a:off x="6477120" y="2666880"/>
            <a:ext cx="2286000" cy="2286000"/>
          </a:xfrm>
          <a:prstGeom prst="rect">
            <a:avLst/>
          </a:prstGeom>
          <a:solidFill>
            <a:srgbClr val="96969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3300"/>
                </a:solidFill>
                <a:latin typeface="Verdana"/>
              </a:rPr>
              <a:t>СТАВ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4" descr="mpindex"/>
          <p:cNvPicPr/>
          <p:nvPr/>
        </p:nvPicPr>
        <p:blipFill>
          <a:blip r:embed="rId2"/>
          <a:stretch/>
        </p:blipFill>
        <p:spPr>
          <a:xfrm>
            <a:off x="7716960" y="838080"/>
            <a:ext cx="1427040" cy="19814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492120" y="6324480"/>
            <a:ext cx="7823520" cy="5202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ГРАЂЕВИНСКИ МАТЕРИЈАЛИ, ТЕХНИЧКО ЦРТАЊЕ, ГРАЂЕВИНСКЕ КОНСТРУКЦИЈ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СЛОБОДОРУЧНО ЦРТАЊЕ, МАТЕМАТИКА, СРПСКИ ЈЕЗИК, СТРАНИ ЈЕЗИК, ФИЗИЧК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 rot="16200000">
            <a:off x="2907720" y="3493440"/>
            <a:ext cx="378792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ПРОЈЕКТИ ОБЈЕКАТА ВИСОКОГРАДЊ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6174720" y="5486400"/>
            <a:ext cx="236016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ГРАЂЕВИНСКА ФИЗ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5"/>
          <p:cNvSpPr/>
          <p:nvPr/>
        </p:nvSpPr>
        <p:spPr>
          <a:xfrm flipV="1">
            <a:off x="4952880" y="914040"/>
            <a:ext cx="0" cy="4799160"/>
          </a:xfrm>
          <a:prstGeom prst="line">
            <a:avLst/>
          </a:prstGeom>
          <a:ln w="2844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 rot="16200000">
            <a:off x="1840320" y="3133800"/>
            <a:ext cx="656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ознаке цртежа, конструктивни склоп, пројектна документација, функција и есте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7"/>
          <p:cNvSpPr/>
          <p:nvPr/>
        </p:nvSpPr>
        <p:spPr>
          <a:xfrm flipV="1">
            <a:off x="5562720" y="915480"/>
            <a:ext cx="0" cy="4341960"/>
          </a:xfrm>
          <a:prstGeom prst="line">
            <a:avLst/>
          </a:prstGeom>
          <a:ln w="2844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8"/>
          <p:cNvSpPr/>
          <p:nvPr/>
        </p:nvSpPr>
        <p:spPr>
          <a:xfrm rot="16200000">
            <a:off x="4455360" y="4004640"/>
            <a:ext cx="191196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АБ КОНСТРУКЦИЈ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9"/>
          <p:cNvSpPr/>
          <p:nvPr/>
        </p:nvSpPr>
        <p:spPr>
          <a:xfrm flipV="1">
            <a:off x="5943600" y="914400"/>
            <a:ext cx="0" cy="4114800"/>
          </a:xfrm>
          <a:prstGeom prst="line">
            <a:avLst/>
          </a:prstGeom>
          <a:ln w="2844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0"/>
          <p:cNvSpPr/>
          <p:nvPr/>
        </p:nvSpPr>
        <p:spPr>
          <a:xfrm rot="16200000">
            <a:off x="3857760" y="3024360"/>
            <a:ext cx="386892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МЕТАЛНЕ И МОНТАЖНЕ  КОНСТРУКЦИЈ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1"/>
          <p:cNvSpPr/>
          <p:nvPr/>
        </p:nvSpPr>
        <p:spPr>
          <a:xfrm flipV="1">
            <a:off x="6324480" y="914040"/>
            <a:ext cx="0" cy="3809880"/>
          </a:xfrm>
          <a:prstGeom prst="line">
            <a:avLst/>
          </a:prstGeom>
          <a:ln w="2844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2"/>
          <p:cNvSpPr/>
          <p:nvPr/>
        </p:nvSpPr>
        <p:spPr>
          <a:xfrm rot="16200000">
            <a:off x="4950720" y="2290680"/>
            <a:ext cx="244548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ДРВЕНЕ  КОНСТРУКЦИЈ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3"/>
          <p:cNvSpPr/>
          <p:nvPr/>
        </p:nvSpPr>
        <p:spPr>
          <a:xfrm flipV="1">
            <a:off x="6705720" y="914400"/>
            <a:ext cx="0" cy="3581280"/>
          </a:xfrm>
          <a:prstGeom prst="line">
            <a:avLst/>
          </a:prstGeom>
          <a:ln w="2844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4"/>
          <p:cNvSpPr/>
          <p:nvPr/>
        </p:nvSpPr>
        <p:spPr>
          <a:xfrm rot="16200000">
            <a:off x="5414760" y="2206440"/>
            <a:ext cx="227916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ИЗВОЂЕЊЕ ОБЈЕК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5"/>
          <p:cNvSpPr/>
          <p:nvPr/>
        </p:nvSpPr>
        <p:spPr>
          <a:xfrm flipV="1">
            <a:off x="7086600" y="914040"/>
            <a:ext cx="0" cy="3505320"/>
          </a:xfrm>
          <a:prstGeom prst="line">
            <a:avLst/>
          </a:prstGeom>
          <a:ln w="2844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6"/>
          <p:cNvSpPr/>
          <p:nvPr/>
        </p:nvSpPr>
        <p:spPr>
          <a:xfrm rot="16200000">
            <a:off x="5541120" y="2489040"/>
            <a:ext cx="278820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ДОКУМЕНТАЦИЈА ОБЈЕК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7"/>
          <p:cNvSpPr/>
          <p:nvPr/>
        </p:nvSpPr>
        <p:spPr>
          <a:xfrm flipV="1">
            <a:off x="3733920" y="914040"/>
            <a:ext cx="0" cy="2971800"/>
          </a:xfrm>
          <a:prstGeom prst="line">
            <a:avLst/>
          </a:prstGeom>
          <a:ln w="2844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8"/>
          <p:cNvSpPr/>
          <p:nvPr/>
        </p:nvSpPr>
        <p:spPr>
          <a:xfrm rot="16200000">
            <a:off x="2764440" y="2073960"/>
            <a:ext cx="163620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КОНЗЕРВАЦИЈ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0"/>
          <p:cNvSpPr/>
          <p:nvPr/>
        </p:nvSpPr>
        <p:spPr>
          <a:xfrm flipV="1">
            <a:off x="3352680" y="914040"/>
            <a:ext cx="0" cy="2971800"/>
          </a:xfrm>
          <a:prstGeom prst="line">
            <a:avLst/>
          </a:prstGeom>
          <a:ln w="2844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1"/>
          <p:cNvSpPr/>
          <p:nvPr/>
        </p:nvSpPr>
        <p:spPr>
          <a:xfrm rot="16200000">
            <a:off x="2546640" y="1876320"/>
            <a:ext cx="131004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УРБАНИЗ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2"/>
          <p:cNvSpPr/>
          <p:nvPr/>
        </p:nvSpPr>
        <p:spPr>
          <a:xfrm flipV="1">
            <a:off x="4572000" y="914040"/>
            <a:ext cx="0" cy="2590920"/>
          </a:xfrm>
          <a:prstGeom prst="line">
            <a:avLst/>
          </a:prstGeom>
          <a:ln w="2844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3"/>
          <p:cNvSpPr/>
          <p:nvPr/>
        </p:nvSpPr>
        <p:spPr>
          <a:xfrm rot="16200000">
            <a:off x="3319920" y="2247840"/>
            <a:ext cx="220140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КУЋНЕ ИНСТАЛАЦИЈ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9"/>
          <p:cNvSpPr/>
          <p:nvPr/>
        </p:nvSpPr>
        <p:spPr>
          <a:xfrm rot="16200000">
            <a:off x="2583000" y="2678040"/>
            <a:ext cx="276084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ПРЕЗАНТАЦИЈА ПРОЈЕК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5"/>
          <p:cNvSpPr/>
          <p:nvPr/>
        </p:nvSpPr>
        <p:spPr>
          <a:xfrm>
            <a:off x="0" y="0"/>
            <a:ext cx="1828800" cy="762120"/>
          </a:xfrm>
          <a:prstGeom prst="cloudCallout">
            <a:avLst>
              <a:gd name="adj1" fmla="val 10592"/>
              <a:gd name="adj2" fmla="val 46875"/>
            </a:avLst>
          </a:prstGeom>
          <a:solidFill>
            <a:srgbClr val="99cc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ЗАШТИТА СПОМЕ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6"/>
          <p:cNvSpPr/>
          <p:nvPr/>
        </p:nvSpPr>
        <p:spPr>
          <a:xfrm>
            <a:off x="990720" y="533520"/>
            <a:ext cx="1752480" cy="609480"/>
          </a:xfrm>
          <a:prstGeom prst="cloudCallout">
            <a:avLst>
              <a:gd name="adj1" fmla="val 31069"/>
              <a:gd name="adj2" fmla="val 59898"/>
            </a:avLst>
          </a:prstGeom>
          <a:solidFill>
            <a:srgbClr val="99cc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УРБАНИЗ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7"/>
          <p:cNvSpPr/>
          <p:nvPr/>
        </p:nvSpPr>
        <p:spPr>
          <a:xfrm>
            <a:off x="1447920" y="0"/>
            <a:ext cx="1904760" cy="609480"/>
          </a:xfrm>
          <a:prstGeom prst="cloudCallout">
            <a:avLst>
              <a:gd name="adj1" fmla="val 27333"/>
              <a:gd name="adj2" fmla="val 122916"/>
            </a:avLst>
          </a:prstGeom>
          <a:solidFill>
            <a:srgbClr val="99cc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ИНСПЕКЦ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8"/>
          <p:cNvSpPr/>
          <p:nvPr/>
        </p:nvSpPr>
        <p:spPr>
          <a:xfrm>
            <a:off x="4952880" y="533520"/>
            <a:ext cx="2210040" cy="457200"/>
          </a:xfrm>
          <a:prstGeom prst="cloudCallout">
            <a:avLst>
              <a:gd name="adj1" fmla="val -430"/>
              <a:gd name="adj2" fmla="val 29861"/>
            </a:avLst>
          </a:prstGeom>
          <a:solidFill>
            <a:srgbClr val="99cc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ГРАДИЛИШ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9"/>
          <p:cNvSpPr/>
          <p:nvPr/>
        </p:nvSpPr>
        <p:spPr>
          <a:xfrm>
            <a:off x="5791320" y="0"/>
            <a:ext cx="2133360" cy="762120"/>
          </a:xfrm>
          <a:prstGeom prst="cloudCallout">
            <a:avLst>
              <a:gd name="adj1" fmla="val -51337"/>
              <a:gd name="adj2" fmla="val 5416"/>
            </a:avLst>
          </a:prstGeom>
          <a:solidFill>
            <a:srgbClr val="99cc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АРХИТЕКТОНСКИ ФАКУЛТ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50"/>
          <p:cNvSpPr/>
          <p:nvPr/>
        </p:nvSpPr>
        <p:spPr>
          <a:xfrm>
            <a:off x="7086600" y="228600"/>
            <a:ext cx="2057400" cy="762120"/>
          </a:xfrm>
          <a:prstGeom prst="cloudCallout">
            <a:avLst>
              <a:gd name="adj1" fmla="val -41050"/>
              <a:gd name="adj2" fmla="val 78541"/>
            </a:avLst>
          </a:prstGeom>
          <a:solidFill>
            <a:srgbClr val="99cc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ГРАЂЕВИНСКИ ФАКУЛТ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51"/>
          <p:cNvSpPr/>
          <p:nvPr/>
        </p:nvSpPr>
        <p:spPr>
          <a:xfrm>
            <a:off x="3886200" y="0"/>
            <a:ext cx="2209680" cy="457200"/>
          </a:xfrm>
          <a:prstGeom prst="cloudCallout">
            <a:avLst>
              <a:gd name="adj1" fmla="val 54740"/>
              <a:gd name="adj2" fmla="val 179861"/>
            </a:avLst>
          </a:prstGeom>
          <a:solidFill>
            <a:srgbClr val="99cc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ПРОЈЕКТНИ БИР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52"/>
          <p:cNvSpPr/>
          <p:nvPr/>
        </p:nvSpPr>
        <p:spPr>
          <a:xfrm>
            <a:off x="2895480" y="457200"/>
            <a:ext cx="2210040" cy="457200"/>
          </a:xfrm>
          <a:prstGeom prst="cloudCallout">
            <a:avLst>
              <a:gd name="adj1" fmla="val 106467"/>
              <a:gd name="adj2" fmla="val 113194"/>
            </a:avLst>
          </a:prstGeom>
          <a:solidFill>
            <a:srgbClr val="99cc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КОМУНАЛНЕ СЛУЖБ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5"/>
          <p:cNvSpPr/>
          <p:nvPr/>
        </p:nvSpPr>
        <p:spPr>
          <a:xfrm flipV="1">
            <a:off x="4114800" y="914040"/>
            <a:ext cx="0" cy="2971800"/>
          </a:xfrm>
          <a:prstGeom prst="line">
            <a:avLst/>
          </a:prstGeom>
          <a:ln w="2844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56"/>
          <p:cNvSpPr/>
          <p:nvPr/>
        </p:nvSpPr>
        <p:spPr>
          <a:xfrm rot="10800000">
            <a:off x="4648320" y="45720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9"/>
          <p:cNvSpPr/>
          <p:nvPr/>
        </p:nvSpPr>
        <p:spPr>
          <a:xfrm>
            <a:off x="1526040" y="2209680"/>
            <a:ext cx="115776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ИСТОР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0"/>
          <p:cNvSpPr/>
          <p:nvPr/>
        </p:nvSpPr>
        <p:spPr>
          <a:xfrm>
            <a:off x="2211840" y="5715000"/>
            <a:ext cx="92124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ХЕМ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1"/>
          <p:cNvSpPr/>
          <p:nvPr/>
        </p:nvSpPr>
        <p:spPr>
          <a:xfrm>
            <a:off x="7144200" y="2895480"/>
            <a:ext cx="199728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ТЕХНИЧКО ЦРТАЊ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2"/>
          <p:cNvSpPr/>
          <p:nvPr/>
        </p:nvSpPr>
        <p:spPr>
          <a:xfrm>
            <a:off x="1069920" y="5105520"/>
            <a:ext cx="318456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РАЧУНАРСТВО И ИНФОРМАТ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4"/>
          <p:cNvSpPr/>
          <p:nvPr/>
        </p:nvSpPr>
        <p:spPr>
          <a:xfrm>
            <a:off x="1373760" y="4114800"/>
            <a:ext cx="230688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НАЦРТНА ГЕОМЕТР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5"/>
          <p:cNvSpPr/>
          <p:nvPr/>
        </p:nvSpPr>
        <p:spPr>
          <a:xfrm>
            <a:off x="611640" y="3276720"/>
            <a:ext cx="256896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СЛОБОДОРУЧНО ЦРТАЊ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7"/>
          <p:cNvSpPr/>
          <p:nvPr/>
        </p:nvSpPr>
        <p:spPr>
          <a:xfrm>
            <a:off x="613440" y="5105520"/>
            <a:ext cx="405792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ПРИМЕНА РАЧУНАРА У ГРАЂЕВИНАРСТВ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8"/>
          <p:cNvSpPr/>
          <p:nvPr/>
        </p:nvSpPr>
        <p:spPr>
          <a:xfrm>
            <a:off x="7165440" y="4572000"/>
            <a:ext cx="101736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СТАТ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9"/>
          <p:cNvSpPr/>
          <p:nvPr/>
        </p:nvSpPr>
        <p:spPr>
          <a:xfrm>
            <a:off x="687960" y="2209680"/>
            <a:ext cx="249408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ИСТОРИЈА АРХИТЕКТУР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3"/>
          <p:cNvSpPr/>
          <p:nvPr/>
        </p:nvSpPr>
        <p:spPr>
          <a:xfrm>
            <a:off x="7164360" y="2133720"/>
            <a:ext cx="1160640" cy="5202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ОДРЖИВ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РАЗВО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4"/>
          <p:cNvSpPr/>
          <p:nvPr/>
        </p:nvSpPr>
        <p:spPr>
          <a:xfrm>
            <a:off x="383040" y="1447920"/>
            <a:ext cx="154008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МУЛТИМЕДИЈ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5"/>
          <p:cNvSpPr/>
          <p:nvPr/>
        </p:nvSpPr>
        <p:spPr>
          <a:xfrm>
            <a:off x="763560" y="2666880"/>
            <a:ext cx="139392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ГЕОГРАФ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6"/>
          <p:cNvSpPr/>
          <p:nvPr/>
        </p:nvSpPr>
        <p:spPr>
          <a:xfrm>
            <a:off x="839880" y="3657600"/>
            <a:ext cx="190116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МУЗИЧКА КУЛТУ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7"/>
          <p:cNvSpPr/>
          <p:nvPr/>
        </p:nvSpPr>
        <p:spPr>
          <a:xfrm>
            <a:off x="687600" y="4495680"/>
            <a:ext cx="232488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ИСТОРИЈА УМЕТ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9"/>
          <p:cNvSpPr/>
          <p:nvPr/>
        </p:nvSpPr>
        <p:spPr>
          <a:xfrm>
            <a:off x="231480" y="1828800"/>
            <a:ext cx="291312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САВРЕМЕНО ГРАДИТЕЉ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0"/>
          <p:cNvSpPr/>
          <p:nvPr/>
        </p:nvSpPr>
        <p:spPr>
          <a:xfrm>
            <a:off x="383760" y="5105520"/>
            <a:ext cx="366444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ОСНОВИ КОМУНАЛНЕ ХИДРОТЕХНИ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1"/>
          <p:cNvSpPr/>
          <p:nvPr/>
        </p:nvSpPr>
        <p:spPr>
          <a:xfrm>
            <a:off x="7545600" y="4191120"/>
            <a:ext cx="125064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ГЕОДЕЗ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3"/>
          <p:cNvSpPr/>
          <p:nvPr/>
        </p:nvSpPr>
        <p:spPr>
          <a:xfrm>
            <a:off x="6327000" y="5029200"/>
            <a:ext cx="243324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ОСНОВИ НИСКОГРАДЊ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4"/>
          <p:cNvSpPr/>
          <p:nvPr/>
        </p:nvSpPr>
        <p:spPr>
          <a:xfrm>
            <a:off x="7165080" y="3352680"/>
            <a:ext cx="181764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КОМБИНАТОР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5"/>
          <p:cNvSpPr/>
          <p:nvPr/>
        </p:nvSpPr>
        <p:spPr>
          <a:xfrm>
            <a:off x="155880" y="2971800"/>
            <a:ext cx="152172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ПЕРСПЕКТИ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6"/>
          <p:cNvSpPr/>
          <p:nvPr/>
        </p:nvSpPr>
        <p:spPr>
          <a:xfrm>
            <a:off x="689760" y="4800600"/>
            <a:ext cx="310680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ФИЗИКА ИЗАБРАНА ПОГЛАВЉ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7"/>
          <p:cNvSpPr/>
          <p:nvPr/>
        </p:nvSpPr>
        <p:spPr>
          <a:xfrm>
            <a:off x="6480720" y="5181480"/>
            <a:ext cx="248364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МАТЕМАТИЧКА АНАЛИ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8"/>
          <p:cNvSpPr/>
          <p:nvPr/>
        </p:nvSpPr>
        <p:spPr>
          <a:xfrm>
            <a:off x="230400" y="3886200"/>
            <a:ext cx="247896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КОМПОНОВАЊЕ ОБЛ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9"/>
          <p:cNvSpPr/>
          <p:nvPr/>
        </p:nvSpPr>
        <p:spPr>
          <a:xfrm>
            <a:off x="230760" y="5638680"/>
            <a:ext cx="252936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ПЕЈЗАЖНА АРХИТЕКТУ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0"/>
          <p:cNvSpPr/>
          <p:nvPr/>
        </p:nvSpPr>
        <p:spPr>
          <a:xfrm>
            <a:off x="383400" y="2438280"/>
            <a:ext cx="136656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ЕНТЕРИЈЕ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1"/>
          <p:cNvSpPr/>
          <p:nvPr/>
        </p:nvSpPr>
        <p:spPr>
          <a:xfrm>
            <a:off x="7012800" y="3809880"/>
            <a:ext cx="1933200" cy="307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ПРЕДУЗЕТНИШ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0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80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6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000"/>
                            </p:stCondLst>
                            <p:childTnLst>
                              <p:par>
                                <p:cTn id="1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9000"/>
                            </p:stCondLst>
                            <p:childTnLst>
                              <p:par>
                                <p:cTn id="1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9000"/>
                            </p:stCondLst>
                            <p:childTnLst>
                              <p:par>
                                <p:cTn id="2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1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2000"/>
                            </p:stCondLst>
                            <p:childTnLst>
                              <p:par>
                                <p:cTn id="2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3000"/>
                            </p:stCondLst>
                            <p:childTnLst>
                              <p:par>
                                <p:cTn id="24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00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6000"/>
                            </p:stCondLst>
                            <p:childTnLst>
                              <p:par>
                                <p:cTn id="2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7000"/>
                            </p:stCondLst>
                            <p:childTnLst>
                              <p:par>
                                <p:cTn id="2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80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9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40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600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700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8000"/>
                            </p:stCondLst>
                            <p:childTnLst>
                              <p:par>
                                <p:cTn id="3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9000"/>
                            </p:stCondLst>
                            <p:childTnLst>
                              <p:par>
                                <p:cTn id="3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0"/>
                            </p:stCondLst>
                            <p:childTnLst>
                              <p:par>
                                <p:cTn id="3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1000"/>
                            </p:stCondLst>
                            <p:childTnLst>
                              <p:par>
                                <p:cTn id="3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2000"/>
                            </p:stCondLst>
                            <p:childTnLst>
                              <p:par>
                                <p:cTn id="3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300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400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500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6000"/>
                            </p:stCondLst>
                            <p:childTnLst>
                              <p:par>
                                <p:cTn id="3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8000"/>
                            </p:stCondLst>
                            <p:childTnLst>
                              <p:par>
                                <p:cTn id="3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9000"/>
                            </p:stCondLst>
                            <p:childTnLst>
                              <p:par>
                                <p:cTn id="36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0000"/>
                            </p:stCondLst>
                            <p:childTnLst>
                              <p:par>
                                <p:cTn id="3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4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60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700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cc3300"/>
                </a:solidFill>
                <a:latin typeface="Verdana"/>
              </a:rPr>
              <a:t>А: </a:t>
            </a:r>
            <a:r>
              <a:rPr b="1" i="1" lang="en-US" sz="2800" spc="-1" strike="noStrike">
                <a:solidFill>
                  <a:srgbClr val="cc3300"/>
                </a:solidFill>
                <a:latin typeface="Verdana"/>
              </a:rPr>
              <a:t>ОПШТЕОБРАЗОВНИ ПРЕДМ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2201760"/>
          <a:ext cx="8077320" cy="3200400"/>
        </p:xfrm>
        <a:graphic>
          <a:graphicData uri="http://schemas.openxmlformats.org/drawingml/2006/table">
            <a:tbl>
              <a:tblPr/>
              <a:tblGrid>
                <a:gridCol w="973080"/>
                <a:gridCol w="7104240"/>
              </a:tblGrid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РПСКИ ЈЕЗИК И КЊИЖЕВНО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_______ ЈЕЗИК И КЊИЖЕВНО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РАНИ ЈЕЗ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ИЗИЧКО И ЗДРАВСТВЕНО ВАСПИТАЊ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АТЕМА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СТОРИЈ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ЧУНАРСТВО И ИНФОРМА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cc3300"/>
                </a:solidFill>
                <a:latin typeface="YU C Swiss"/>
              </a:rPr>
              <a:t>Б: </a:t>
            </a:r>
            <a:r>
              <a:rPr b="1" i="1" lang="en-US" sz="2800" spc="-1" strike="noStrike">
                <a:solidFill>
                  <a:srgbClr val="cc3300"/>
                </a:solidFill>
                <a:latin typeface="YU C Swiss"/>
              </a:rPr>
              <a:t>ОПШТЕСТРУЧНИ  И СТРУЧНИ ПРЕДМ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447920"/>
          <a:ext cx="8077320" cy="4937040"/>
        </p:xfrm>
        <a:graphic>
          <a:graphicData uri="http://schemas.openxmlformats.org/drawingml/2006/table">
            <a:tbl>
              <a:tblPr/>
              <a:tblGrid>
                <a:gridCol w="685800"/>
                <a:gridCol w="7391520"/>
              </a:tblGrid>
              <a:tr h="411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ХНИЧКО ЦРТАЊ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ЕМИЈ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ЦРТНА ГЕОМЕТРИЈ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РАЂЕВИНСКА ФИЗ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МЕНА РАЧУНАРА У ГРАЂЕВИНАРСТВ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РАЂЕВИНСКИ МАТЕРИЈА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РАЂЕВИНСКЕ КОНСТРУКЦИЈ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АТИКА И ОТПОРНОСТ МАТЕРИЈА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ДРЖИВИ РАЗВО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ЕДУЗЕТНИШ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ОБОДОРУЧНО ЦРТАЊ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СТОРИЈА АРХИТЕКТУ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cc3300"/>
                </a:solidFill>
                <a:latin typeface="Verdana"/>
              </a:rPr>
              <a:t>В: </a:t>
            </a:r>
            <a:r>
              <a:rPr b="1" i="1" lang="en-US" sz="2800" spc="-1" strike="noStrike">
                <a:solidFill>
                  <a:srgbClr val="cc3300"/>
                </a:solidFill>
                <a:latin typeface="Verdana"/>
              </a:rPr>
              <a:t>СТРУЧНИ МОДУ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1600200"/>
          <a:ext cx="8534520" cy="4359240"/>
        </p:xfrm>
        <a:graphic>
          <a:graphicData uri="http://schemas.openxmlformats.org/drawingml/2006/table">
            <a:tbl>
              <a:tblPr/>
              <a:tblGrid>
                <a:gridCol w="870120"/>
                <a:gridCol w="766440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ЈЕКТИ ОБЈЕКАТА ВИСОКОГРАДЊ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РЕЂЕЊЕ НАСЕЉ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ЈЕКТИ КОНЗЕРВАЦИЈЕ И РЕВИТАЛИЗАЦИЈ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ЗРАДА АРМИРАНО БЕТОНСКИХ КОНСТРУКЦИЈ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ЗРАДА МЕТАЛНИХ КОНСТРУКЦИЈ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ЗРАДА ДРВЕНИХ КОНСТРУКЦИЈ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ЗРАДА МОНТАЖНИХ КОНСТРУКЦИЈ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ОКУМЕНТАЦИЈА ОБЈЕК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ЗВОЂЕЊЕ ОБЈЕК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ЕЗЕНТАЦИЈА ПРОЈЕК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УЋНЕ ИНСТАЛАЦИЈ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cc3300"/>
                </a:solidFill>
                <a:latin typeface="Verdana"/>
              </a:rPr>
              <a:t>В: ИЗБОРНИ ПРЕДМ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52280" y="882720"/>
          <a:ext cx="8534520" cy="5811840"/>
        </p:xfrm>
        <a:graphic>
          <a:graphicData uri="http://schemas.openxmlformats.org/drawingml/2006/table">
            <a:tbl>
              <a:tblPr/>
              <a:tblGrid>
                <a:gridCol w="870120"/>
                <a:gridCol w="7664400"/>
              </a:tblGrid>
              <a:tr h="30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cc3300"/>
                          </a:solidFill>
                          <a:latin typeface="Verdana"/>
                        </a:rPr>
                        <a:t>ИЗБОРНИ ПРЕДМЕТ ПРЕДВИЂЕН ЗАКОН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>
                        <a:alpha val="4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ЕРОНАУ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РАЂАНСКО ВАСПИТАЊ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cc3300"/>
                          </a:solidFill>
                          <a:latin typeface="Verdana"/>
                        </a:rPr>
                        <a:t>ИЗБОРНИ ПРЕДМЕТ ПРЕДВИЂЕН ПРОГРАМОМ ОГЛЕ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>
                        <a:alpha val="4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УЛТИМЕДИЈ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ЕОГРАФ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УЗИЧКА КУЛ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СТОРИЈА УМЕТ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НОВЕ КОМУНАЛНЕ ХИДРОТЕХНИ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НОВИ ГЕОДЕЗИЈ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НОВИ НИСКОГРАДЊ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АВРЕМЕНО ГРАДИТЕЉ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РСПЕКТ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БИНАТОРИ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ИЗИКА ИЗАБРАНА ПОГЛАВЉ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НТЕРИЈЕ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ЈЗАЖНА АРХИТЕК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АТЕМАТИЧКА АНАЛИ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ПОНОВАЊЕ ОБЛ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20:15:43Z</dcterms:created>
  <dc:creator/>
  <dc:description/>
  <dc:language>en-US</dc:language>
  <cp:lastModifiedBy>Ivan B.</cp:lastModifiedBy>
  <dcterms:modified xsi:type="dcterms:W3CDTF">2007-12-25T04:51:46Z</dcterms:modified>
  <cp:revision>33</cp:revision>
  <dc:subject/>
  <dc:title>Архитектонски техничар</dc:title>
</cp:coreProperties>
</file>